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40572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372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94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48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94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48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42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242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42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1372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0572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1372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194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48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194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48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242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372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45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45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447920"/>
            <a:ext cx="8686800" cy="318960"/>
            <a:chOff x="228240" y="1447920"/>
            <a:chExt cx="8686800" cy="318960"/>
          </a:xfrm>
        </p:grpSpPr>
        <p:sp>
          <p:nvSpPr>
            <p:cNvPr id="7" name=""/>
            <p:cNvSpPr/>
            <p:nvPr/>
          </p:nvSpPr>
          <p:spPr>
            <a:xfrm>
              <a:off x="676080" y="1447920"/>
              <a:ext cx="8238960" cy="317160"/>
            </a:xfrm>
            <a:prstGeom prst="roundRect">
              <a:avLst>
                <a:gd name="adj" fmla="val 0"/>
              </a:avLst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447920"/>
              <a:ext cx="462600" cy="318960"/>
            </a:xfrm>
            <a:prstGeom prst="flowChartDelay">
              <a:avLst/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9" name="cvologo_f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03240" cy="5572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363800" y="6613560"/>
            <a:ext cx="155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66"/>
                </a:solidFill>
                <a:latin typeface="Symbol"/>
                <a:ea typeface="Symbol"/>
              </a:rPr>
              <a:t></a:t>
            </a:r>
            <a:r>
              <a:rPr b="0" lang="de-DE" sz="1000" spc="-1" strike="noStrike">
                <a:solidFill>
                  <a:srgbClr val="003366"/>
                </a:solidFill>
                <a:latin typeface="Arial"/>
              </a:rPr>
              <a:t>2004 – Rolf Neuendorf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45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429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2429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80808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Laserschutz &amp;</a:t>
            </a:r>
            <a:br>
              <a:rPr sz="3600"/>
            </a:b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Lasersicherhei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65600" y="52578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Dr. Rolf Neuendo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2" name="Rnstrahl" descr=""/>
          <p:cNvPicPr/>
          <p:nvPr/>
        </p:nvPicPr>
        <p:blipFill>
          <a:blip r:embed="rId1"/>
          <a:stretch/>
        </p:blipFill>
        <p:spPr>
          <a:xfrm>
            <a:off x="4648320" y="6858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cvo_fak5" descr=""/>
          <p:cNvPicPr/>
          <p:nvPr/>
        </p:nvPicPr>
        <p:blipFill>
          <a:blip r:embed="rId2"/>
          <a:stretch/>
        </p:blipFill>
        <p:spPr>
          <a:xfrm>
            <a:off x="5715000" y="5719680"/>
            <a:ext cx="25909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"neue" Laserklassifikation (2001)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80808"/>
                </a:solidFill>
                <a:latin typeface="Arial"/>
              </a:rPr>
              <a:t>Klasse 1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- Laser, die unter vernünftigerweise vorhersehbaren Bedingungen sicher sind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80808"/>
                </a:solidFill>
                <a:latin typeface="Arial"/>
              </a:rPr>
              <a:t>Klasse 1M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- Laser, die unter vernünftigerweise vorhersehbaren Bedingungen sicher sind, wenn keine optischen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Instrumente (Linsen, Teleskope, etc.) verwendet werden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80808"/>
                </a:solidFill>
                <a:latin typeface="Arial"/>
              </a:rPr>
              <a:t>Klasse 2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- Laser mit sichtbarer Strahlung (400 nm - 700 nm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- Augenschutz ist üblicherweise durch Abwendungsreaktion oder Lidschlußreflex sichergestell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80808"/>
                </a:solidFill>
                <a:latin typeface="Arial"/>
              </a:rPr>
              <a:t>Klasse 2M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- Laser mit sichtbarer Strahlun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- Sicherheit ist durch Abwendungsreaktion oder Lidschlußreflex gewährleistet, wenn keine weiteren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optischen Instrumente eingesetzt werden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- keine Beschränkung der Laserleistung (wobei der Laser die Klasse 3B nicht überschreiten darf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80808"/>
                </a:solidFill>
                <a:latin typeface="Arial"/>
              </a:rPr>
              <a:t>Klasse 3R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- Laser mit zugänglicher Strahlung, die die max. zul. Bestrahlung für eine Zeitbasis von 0,25 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(sichtbare Strahlung) bzw. 100 s (unsichtbare Bestrahlung) überschreiten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- maximale Ausgangsleistung überschreitet nicht die GZS für Klasse 2 (sichtbar) oder Klasse 1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(unsichtbar) um mehr als den Faktor 5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80808"/>
                </a:solidFill>
                <a:latin typeface="Arial"/>
              </a:rPr>
              <a:t>Klasse 3B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- direkter Strahl für das Auge und in besonderen Fällen auch für die Haut gefährlich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- diffuses Streulicht im Allgemeinen ungefährlich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80808"/>
                </a:solidFill>
                <a:latin typeface="Arial"/>
              </a:rPr>
              <a:t>Klasse 4: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- Ausgangsleistungen oberhalb 500 mW (cw-Betrieb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- sehr gefährlich für das Auge, gefährlich für die Haut; auch bei diffus reflektierter Strahlun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- Brand- und Explosionsgefah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Beschilderung von Laseranlag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1752480"/>
            <a:ext cx="37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(Klassen 1 und 2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 rot="10800000">
          <a:off x="3805200" y="3084120"/>
          <a:ext cx="190656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3805200" y="3084120"/>
                    <a:ext cx="190656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 rot="10800000">
          <a:off x="6553080" y="3084120"/>
          <a:ext cx="190512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10800000">
                    <a:off x="6553080" y="3084120"/>
                    <a:ext cx="1905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765360" y="32767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ser Klasse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5360" y="5105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ser Klasse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8000" y="259092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) Zeitbasis 30.000 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51040" y="259092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) Zeitbasis 100 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94200" y="4114800"/>
          <a:ext cx="152856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4200" y="4114800"/>
                    <a:ext cx="1528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567240" y="4535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6320" y="4535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743880" y="4114800"/>
          <a:ext cx="1523880" cy="205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43880" y="4114800"/>
                    <a:ext cx="1523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Beschilderung von Laseranlag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02960" y="175248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(Klasse 3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5000" y="2666880"/>
            <a:ext cx="45514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unsichtbare Laserstrahlung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ulsla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7320" y="2590920"/>
          <a:ext cx="23698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7320" y="2590920"/>
                    <a:ext cx="23698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Beschilderung von Laseranlag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02960" y="175248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(Klasse 4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000" y="2666880"/>
            <a:ext cx="45514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unsichtbare Laserstrahlung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ulsla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876920" y="2438280"/>
          <a:ext cx="2286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2286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Schutzmaßnahm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1981080"/>
            <a:ext cx="7391160" cy="459720"/>
          </a:xfrm>
          <a:prstGeom prst="rect">
            <a:avLst/>
          </a:prstGeom>
          <a:solidFill>
            <a:srgbClr val="46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2743200"/>
            <a:ext cx="2765160" cy="1104120"/>
          </a:xfrm>
          <a:prstGeom prst="rect">
            <a:avLst/>
          </a:prstGeom>
          <a:solidFill>
            <a:srgbClr val="46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imäre Gefährdung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Laserstrahlu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62400" y="2743200"/>
            <a:ext cx="4316760" cy="799200"/>
          </a:xfrm>
          <a:prstGeom prst="rect">
            <a:avLst/>
          </a:prstGeom>
          <a:solidFill>
            <a:srgbClr val="46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undäre Gefährdung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Anlagen- u. Anwendungsspezifisch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581280"/>
            <a:ext cx="2743200" cy="2743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Herstell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ulic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etreib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ganisatorisc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etreib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3581280"/>
            <a:ext cx="4267440" cy="2743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ktrische Sicherhe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andschut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missions- / Immisionsschut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undär- / Anregungsstrahlu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21320" y="2362320"/>
            <a:ext cx="0" cy="457200"/>
          </a:xfrm>
          <a:prstGeom prst="line">
            <a:avLst/>
          </a:prstGeom>
          <a:ln w="38160">
            <a:solidFill>
              <a:srgbClr val="46b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02080" y="2362320"/>
            <a:ext cx="0" cy="380880"/>
          </a:xfrm>
          <a:prstGeom prst="line">
            <a:avLst/>
          </a:prstGeom>
          <a:ln w="38160">
            <a:solidFill>
              <a:srgbClr val="46b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Technische Schutzmaßnahmen (I)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14400" y="1828800"/>
          <a:ext cx="7894800" cy="4795920"/>
        </p:xfrm>
        <a:graphic>
          <a:graphicData uri="http://schemas.openxmlformats.org/drawingml/2006/table">
            <a:tbl>
              <a:tblPr/>
              <a:tblGrid>
                <a:gridCol w="2103480"/>
                <a:gridCol w="1143000"/>
                <a:gridCol w="1143000"/>
                <a:gridCol w="1066680"/>
                <a:gridCol w="1447920"/>
                <a:gridCol w="990720"/>
              </a:tblGrid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nforderu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lasse 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lasse 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lasse 3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lasse 3B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lasse 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hutzgehäus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In allen Klassen notwendig. Zugang begrenzt bis auf den für die Funktion der Einrichtung erforderlichen Zuga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hutzverriegelu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Verhindert das Entfernen der Abdeckung, solange die GZS nicht niedriger liegen als die Grenzwerte für die jeweilige Klass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Fernbedienu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Icht notwendi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einsetzen, wo möglic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hlüsselschalte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Icht notwendi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erforderlic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trahlwarnu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Icht notwendi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eutlich wahrnehmbares Licht- oder Tonsigna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bschwäche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Icht notwendi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Leistungssenkung bzw. Strahlunterbrechu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Lage der Steuerorgann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Icht notwendi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Bedienung darf keinen Aufenthalt im Strahlengang erforder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Beobachtungsoptik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Emissionswerte der Einblicköffnungen müssen unterhalb der GZS-Werten der Klasse 1 liegen (wenn anwendbar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Richtungsveränderliche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trahlu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Versagen des Ablenkmechanismus darf nich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zur Erhöhung der Laser-Klasse führ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Technische Schutzmaßnahmen (II)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4400" y="2127240"/>
          <a:ext cx="7894800" cy="4121280"/>
        </p:xfrm>
        <a:graphic>
          <a:graphicData uri="http://schemas.openxmlformats.org/drawingml/2006/table">
            <a:tbl>
              <a:tblPr/>
              <a:tblGrid>
                <a:gridCol w="2103480"/>
                <a:gridCol w="1143000"/>
                <a:gridCol w="1143000"/>
                <a:gridCol w="1066680"/>
                <a:gridCol w="1447920"/>
                <a:gridCol w="990720"/>
              </a:tblGrid>
              <a:tr h="34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nforderu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lasse 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lasse 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lasse 3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lasse 3B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lasse 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ennzeichnung der Klass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Geforderter Text und Beschilderung entsprechend der Klass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ennzeichnung der Strahlaustrittsöffnu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Icht notwendi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Entsprechend Klass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ennzeichnung der Serviceöffnu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Entsprechend dem GZS für die jeweilige Klass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Benutzerinform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Bedienungsanleitungen müssen Anweisungen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für den sicheren Betrieb enthalt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Verkaufs- und Serviceinform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erbebroschüren müssen Warnschilder entspr. der Klasse enthalt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artungshandbücher müssen Sicherheitsinformationen enthalt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Medizinische Gerät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Besondere Kalibrieru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Besondere Kalibrieru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trahlauftreffanzeig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Lichtwellenleite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abelstecker nur mit Werkzeug lösbar, wenn dadurch Sicherheitsfunktionen aufgehoben werd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Baulich / Organisatorisch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14400" y="1828800"/>
          <a:ext cx="7894800" cy="4745160"/>
        </p:xfrm>
        <a:graphic>
          <a:graphicData uri="http://schemas.openxmlformats.org/drawingml/2006/table">
            <a:tbl>
              <a:tblPr/>
              <a:tblGrid>
                <a:gridCol w="2103480"/>
                <a:gridCol w="1143000"/>
                <a:gridCol w="1143000"/>
                <a:gridCol w="1249200"/>
                <a:gridCol w="1265400"/>
                <a:gridCol w="990720"/>
              </a:tblGrid>
              <a:tr h="372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nforderu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lasse 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lasse 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lasse 3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lasse 3B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lasse 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Fernbedienbare Verriegelu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Icht notwendi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n Raum oder Türstromkreis anschliesse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hlüsselschalte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Icht notwendi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hlüssel entfernen, wenn ausser Betrieb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trahlanzeig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Icht notwendi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Zeigt Laserbetrieb a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arnzeich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Icht notwendi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en Hinweisen auf den Warnzeichen ist zu folg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trahlweg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Icht notwendi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trahlweg zweckdienlich beend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piegelnde Reflexion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Icht notwendi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vermeid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ugenschutz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eine Anforderung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otwendig, wenn techn. oder Organ. Maßnahmen nicht möglich und MZB-Werte überschritten werd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usbildu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eine Anforderung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Für Bedienungs-/Wartungspersonal erforderlic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Persönlicher Augenschutz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2133720"/>
            <a:ext cx="3057480" cy="860040"/>
          </a:xfrm>
          <a:prstGeom prst="rect">
            <a:avLst/>
          </a:prstGeom>
          <a:solidFill>
            <a:srgbClr val="46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serschutzbri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207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2971800"/>
            <a:ext cx="3048120" cy="2743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stuf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1  -  L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2133720"/>
            <a:ext cx="3057480" cy="860040"/>
          </a:xfrm>
          <a:prstGeom prst="rect">
            <a:avLst/>
          </a:prstGeom>
          <a:solidFill>
            <a:srgbClr val="46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ser-Justierbri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20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2971800"/>
            <a:ext cx="3047760" cy="27432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stuf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1  -  R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34290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004290"/>
          </a:solidFill>
          <a:ln w="9360">
            <a:solidFill>
              <a:srgbClr val="0042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4290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004290"/>
          </a:solidFill>
          <a:ln w="9360">
            <a:solidFill>
              <a:srgbClr val="0042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Kennzeichn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0320" y="2173320"/>
            <a:ext cx="400320" cy="459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6080" y="2173320"/>
            <a:ext cx="857520" cy="459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6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40840" y="2173320"/>
            <a:ext cx="519120" cy="459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96120" y="2173320"/>
            <a:ext cx="383400" cy="459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15680" y="2173320"/>
            <a:ext cx="704880" cy="459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080" y="2173320"/>
            <a:ext cx="603000" cy="459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8" idx="2"/>
            <a:endCxn id="211" idx="1"/>
          </p:cNvCxnSpPr>
          <p:nvPr/>
        </p:nvCxnSpPr>
        <p:spPr>
          <a:xfrm flipH="1" rot="16200000">
            <a:off x="5179680" y="2128320"/>
            <a:ext cx="389880" cy="1411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6078960" y="283068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rmzeic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78960" y="3451320"/>
            <a:ext cx="19515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nnbuchstab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 Herstell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79320" y="44686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stuf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79320" y="5089680"/>
            <a:ext cx="28414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lenlänge, gegen d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rille Schutz biet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76800" y="6107040"/>
            <a:ext cx="23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serbetriebsart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07" idx="2"/>
            <a:endCxn id="212" idx="1"/>
          </p:cNvCxnSpPr>
          <p:nvPr/>
        </p:nvCxnSpPr>
        <p:spPr>
          <a:xfrm flipH="1" rot="16200000">
            <a:off x="4379760" y="2147400"/>
            <a:ext cx="1208880" cy="21931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6" idx="2"/>
            <a:endCxn id="213" idx="1"/>
          </p:cNvCxnSpPr>
          <p:nvPr/>
        </p:nvCxnSpPr>
        <p:spPr>
          <a:xfrm flipH="1" rot="16200000">
            <a:off x="3625560" y="2213640"/>
            <a:ext cx="2028240" cy="2880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  <a:endCxn id="214" idx="1"/>
          </p:cNvCxnSpPr>
          <p:nvPr/>
        </p:nvCxnSpPr>
        <p:spPr>
          <a:xfrm flipH="1" rot="16200000">
            <a:off x="2754000" y="2160000"/>
            <a:ext cx="2847240" cy="3805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4" idx="2"/>
            <a:endCxn id="215" idx="1"/>
          </p:cNvCxnSpPr>
          <p:nvPr/>
        </p:nvCxnSpPr>
        <p:spPr>
          <a:xfrm flipH="1" rot="16200000">
            <a:off x="1911960" y="2138040"/>
            <a:ext cx="3666240" cy="46695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1520640" y="6019920"/>
            <a:ext cx="3441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 = Dauerstrich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Impu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 = Riesenimpul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 = Modengekoppel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Inhal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Gefährdungspotenzial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Umgang mit Laserstrahlung: Vorschrifte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Strahlungsgrenzwert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Laserklassifizieru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Beschilderung von Laseranlage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Schutzmaßnahme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Laserschutzbrille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Abschirmunge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Berechnung der Schutzstufe (cw)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1905120"/>
            <a:ext cx="6400800" cy="1447560"/>
          </a:xfrm>
          <a:prstGeom prst="rect">
            <a:avLst/>
          </a:prstGeom>
          <a:solidFill>
            <a:srgbClr val="46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serdat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2286000"/>
            <a:ext cx="1295640" cy="990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serart 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llenläng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2286000"/>
            <a:ext cx="1295280" cy="990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rahl-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53080" y="2286000"/>
            <a:ext cx="1295640" cy="102636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rahl-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läch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3429000"/>
            <a:ext cx="6400800" cy="1447920"/>
          </a:xfrm>
          <a:prstGeom prst="rect">
            <a:avLst/>
          </a:prstGeom>
          <a:solidFill>
            <a:srgbClr val="46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amet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3867120"/>
            <a:ext cx="1295640" cy="8665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llenläng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reic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3867120"/>
            <a:ext cx="3429000" cy="8665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trahlungsstärkeWellenläng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 = P/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41800" y="5905440"/>
            <a:ext cx="1773360" cy="459720"/>
          </a:xfrm>
          <a:prstGeom prst="rect">
            <a:avLst/>
          </a:prstGeom>
          <a:solidFill>
            <a:srgbClr val="46b13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utzstuf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3" idx="2"/>
            <a:endCxn id="227" idx="0"/>
          </p:cNvCxnSpPr>
          <p:nvPr/>
        </p:nvCxnSpPr>
        <p:spPr>
          <a:xfrm>
            <a:off x="2857320" y="3276720"/>
            <a:ext cx="1080" cy="591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4" idx="2"/>
            <a:endCxn id="228" idx="0"/>
          </p:cNvCxnSpPr>
          <p:nvPr/>
        </p:nvCxnSpPr>
        <p:spPr>
          <a:xfrm>
            <a:off x="5028840" y="3276720"/>
            <a:ext cx="1105560" cy="591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5" idx="2"/>
            <a:endCxn id="228" idx="0"/>
          </p:cNvCxnSpPr>
          <p:nvPr/>
        </p:nvCxnSpPr>
        <p:spPr>
          <a:xfrm flipH="1">
            <a:off x="6133680" y="3301920"/>
            <a:ext cx="1067760" cy="565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7" idx="2"/>
            <a:endCxn id="229" idx="0"/>
          </p:cNvCxnSpPr>
          <p:nvPr/>
        </p:nvCxnSpPr>
        <p:spPr>
          <a:xfrm>
            <a:off x="2857680" y="4724280"/>
            <a:ext cx="2171880" cy="1162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8" idx="2"/>
            <a:endCxn id="229" idx="0"/>
          </p:cNvCxnSpPr>
          <p:nvPr/>
        </p:nvCxnSpPr>
        <p:spPr>
          <a:xfrm flipH="1">
            <a:off x="5028480" y="4724280"/>
            <a:ext cx="1105560" cy="1162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3467160" y="5029200"/>
            <a:ext cx="3124080" cy="533520"/>
          </a:xfrm>
          <a:prstGeom prst="flowChartTerminator">
            <a:avLst/>
          </a:prstGeom>
          <a:solidFill>
            <a:srgbClr val="46b134"/>
          </a:solidFill>
          <a:ln w="9360">
            <a:solidFill>
              <a:srgbClr val="46b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b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Fallbeispiel: Nd:YAG (cw)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Laserdaten: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Laser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: Nd:YA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Wellenlänge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: </a:t>
            </a:r>
            <a:r>
              <a:rPr b="0" lang="de-DE" sz="1200" spc="-1" strike="noStrike">
                <a:solidFill>
                  <a:srgbClr val="080808"/>
                </a:solidFill>
                <a:latin typeface="Symbol"/>
                <a:ea typeface="Symbol"/>
              </a:rPr>
              <a:t>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 = 1064 nm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Leistung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: P = 600 W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Strahldurchmesser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: d = 8 mm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Betriebsart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: cw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80808"/>
                </a:solidFill>
                <a:latin typeface="Arial"/>
              </a:rPr>
              <a:t>Auslegungsparameter ermitteln: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Wellenlängenbereich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Bereich 315 nm - 1400 nm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Nd:YAG-Laser (1064 nm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Betriebsdauer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Betriebsdauer: D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cw-Betrieb (Dauerstrich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Bestrahlungsstärk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Strahlfläche: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Bestrahlungsstärk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80808"/>
                </a:solidFill>
                <a:latin typeface="Arial"/>
              </a:rPr>
              <a:t>Schutzstufe ablesen: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1.19x10</a:t>
            </a:r>
            <a:r>
              <a:rPr b="0" lang="de-DE" sz="1200" spc="-1" strike="noStrike" baseline="30000">
                <a:solidFill>
                  <a:srgbClr val="080808"/>
                </a:solidFill>
                <a:latin typeface="Arial"/>
              </a:rPr>
              <a:t>7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 W/m</a:t>
            </a:r>
            <a:r>
              <a:rPr b="0" lang="de-DE" sz="1200" spc="-1" strike="noStrike" baseline="30000">
                <a:solidFill>
                  <a:srgbClr val="080808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 &gt; 10</a:t>
            </a:r>
            <a:r>
              <a:rPr b="0" lang="de-DE" sz="1200" spc="-1" strike="noStrike" baseline="30000">
                <a:solidFill>
                  <a:srgbClr val="080808"/>
                </a:solidFill>
                <a:latin typeface="Arial"/>
              </a:rPr>
              <a:t>7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 W/m</a:t>
            </a:r>
            <a:r>
              <a:rPr b="0" lang="de-DE" sz="1200" spc="-1" strike="noStrike" baseline="30000">
                <a:solidFill>
                  <a:srgbClr val="080808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Wählen 10</a:t>
            </a:r>
            <a:r>
              <a:rPr b="0" lang="de-DE" sz="1200" spc="-1" strike="noStrike" baseline="30000">
                <a:solidFill>
                  <a:srgbClr val="080808"/>
                </a:solidFill>
                <a:latin typeface="Arial"/>
              </a:rPr>
              <a:t>8</a:t>
            </a:r>
            <a:r>
              <a:rPr b="0" lang="de-DE" sz="1200" spc="-1" strike="noStrike">
                <a:solidFill>
                  <a:srgbClr val="080808"/>
                </a:solidFill>
                <a:latin typeface="Arial"/>
              </a:rPr>
              <a:t> W/m</a:t>
            </a:r>
            <a:r>
              <a:rPr b="0" lang="de-DE" sz="1200" spc="-1" strike="noStrike" baseline="30000">
                <a:solidFill>
                  <a:srgbClr val="080808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Schutzstufe:  L7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365760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05320" y="403848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586728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632448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886200" y="4459320"/>
                <a:ext cx="32004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86200" y="4952880"/>
                <a:ext cx="2362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Berechnung der Schutzstufe (Puls)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A) Ermittlung der mittleren Leistungsdicht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E: mittlere Leistungsdicht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P: mittlere Laserleistung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A: Strahlquerschnit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B)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1.) Wellenlängenbereiche </a:t>
            </a:r>
            <a:r>
              <a:rPr b="0" lang="de-DE" sz="1400" spc="-1" strike="noStrike">
                <a:solidFill>
                  <a:srgbClr val="080808"/>
                </a:solidFill>
                <a:latin typeface="Symbol"/>
                <a:ea typeface="Symbol"/>
              </a:rPr>
              <a:t>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 &lt; 400 nm und </a:t>
            </a:r>
            <a:r>
              <a:rPr b="0" lang="de-DE" sz="1400" spc="-1" strike="noStrike">
                <a:solidFill>
                  <a:srgbClr val="080808"/>
                </a:solidFill>
                <a:latin typeface="Symbol"/>
                <a:ea typeface="Symbol"/>
              </a:rPr>
              <a:t>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 &gt; 1400 n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- Bestimmung der Energiedichte H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H: Energiedicht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Q: Impulsenergi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A: Strahlquerschnit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2.) Wellenlängenbereich 400 nm &lt; </a:t>
            </a:r>
            <a:r>
              <a:rPr b="0" lang="de-DE" sz="1400" spc="-1" strike="noStrike">
                <a:solidFill>
                  <a:srgbClr val="080808"/>
                </a:solidFill>
                <a:latin typeface="Symbol"/>
                <a:ea typeface="Symbol"/>
              </a:rPr>
              <a:t>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 &lt; 1400 n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- Bestimmung der korrigierten Energiedichte H'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Symbol"/>
                <a:ea typeface="Symbol"/>
              </a:rPr>
              <a:t>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: Repetitionsfrequenz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N: Anzahl der Impulse in der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betrachteten Zeitbasis 10 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- höchsten Wert aus A und B nehme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- aus Tabelle erforderliche Schutzstufe ablesen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8672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46b134"/>
          </a:solidFill>
          <a:ln w="9360">
            <a:solidFill>
              <a:srgbClr val="46b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971800" y="2286000"/>
                <a:ext cx="685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971800" y="3583080"/>
                <a:ext cx="685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971800" y="4876920"/>
                <a:ext cx="11430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ν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Prüfdauer für Laserschutzbrill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914400" y="2362320"/>
          <a:ext cx="8001000" cy="3197160"/>
        </p:xfrm>
        <a:graphic>
          <a:graphicData uri="http://schemas.openxmlformats.org/drawingml/2006/table">
            <a:tbl>
              <a:tblPr/>
              <a:tblGrid>
                <a:gridCol w="1371600"/>
                <a:gridCol w="2743200"/>
                <a:gridCol w="1886040"/>
                <a:gridCol w="200016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Laserar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6b13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Bezeichnung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6b13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Prüfdauer [s]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6b13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Impulszahl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6b134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auerstrahllas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49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Impulslas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0</a:t>
                      </a:r>
                      <a:r>
                        <a:rPr b="0" lang="de-DE" sz="2400" spc="-1" strike="noStrike" baseline="30000">
                          <a:solidFill>
                            <a:srgbClr val="080808"/>
                          </a:solidFill>
                          <a:latin typeface="Arial"/>
                        </a:rPr>
                        <a:t>-4</a:t>
                      </a: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bis 10</a:t>
                      </a:r>
                      <a:r>
                        <a:rPr b="0" lang="de-DE" sz="2400" spc="-1" strike="noStrike" baseline="30000">
                          <a:solidFill>
                            <a:srgbClr val="080808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Riesenimpulslas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0</a:t>
                      </a:r>
                      <a:r>
                        <a:rPr b="0" lang="de-DE" sz="2400" spc="-1" strike="noStrike" baseline="30000">
                          <a:solidFill>
                            <a:srgbClr val="080808"/>
                          </a:solidFill>
                          <a:latin typeface="Arial"/>
                        </a:rPr>
                        <a:t>-9</a:t>
                      </a: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bis 10</a:t>
                      </a:r>
                      <a:r>
                        <a:rPr b="0" lang="de-DE" sz="2400" spc="-1" strike="noStrike" baseline="30000">
                          <a:solidFill>
                            <a:srgbClr val="080808"/>
                          </a:solidFill>
                          <a:latin typeface="Arial"/>
                        </a:rPr>
                        <a:t>-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Modengekoppelt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Impulslas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&lt; 10</a:t>
                      </a:r>
                      <a:r>
                        <a:rPr b="0" lang="de-DE" sz="2400" spc="-1" strike="noStrike" baseline="30000">
                          <a:solidFill>
                            <a:srgbClr val="080808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Abschirmung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Technische Norme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2362320"/>
            <a:ext cx="3124080" cy="838080"/>
          </a:xfrm>
          <a:prstGeom prst="rect">
            <a:avLst/>
          </a:prstGeom>
          <a:solidFill>
            <a:srgbClr val="46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schirmung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225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2362320"/>
            <a:ext cx="3124080" cy="838080"/>
          </a:xfrm>
          <a:prstGeom prst="rect">
            <a:avLst/>
          </a:prstGeom>
          <a:solidFill>
            <a:srgbClr val="46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serschutzwän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60825-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47680" y="4495680"/>
            <a:ext cx="754920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utz vor unkontrolliert austretender Strahlu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normalem Betrie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 Folge "vorhersehbarer" Feh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"vorhersehbare" Fehler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066680" y="1981080"/>
          <a:ext cx="7620120" cy="42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620120" cy="42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Unfallstatistik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2570040"/>
            <a:ext cx="7619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Laser Typ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%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Betroffene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Nd:YAG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29,7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Techniker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21,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Argon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20,5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Wissenschaftler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17,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CO</a:t>
            </a:r>
            <a:r>
              <a:rPr b="0" lang="de-DE" sz="2000" spc="-1" strike="noStrike" baseline="-25000">
                <a:solidFill>
                  <a:srgbClr val="080808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12,8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Patienten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12,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Dye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  9,9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Arbeiter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10,7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HeNe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  7,0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Ärzte/Pfleger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  9,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Andere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20,1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Studenten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  8,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Zuschauer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  4,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Andere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15,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76760" y="20574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Unfälle bei Laseranwendungen in den U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2494080"/>
            <a:ext cx="7239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84600" y="5694480"/>
            <a:ext cx="55846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395 registrierte Unfälle im Zeitraum 1964-1999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Quelle: Rockwell Laser Incident Databa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5694480"/>
            <a:ext cx="7239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Zusammenfass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657240" y="18288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Gefährdungspotenzia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Laserstrahlun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anwendungsspezifisch / indirek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bauartspezifisch / direk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Vorschrifte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BGV B2 "Laserstrahlung"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DIN EN 60825 "Sicherheit"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DIN EN 207/208 "Schutzfilter/-brillen"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relevante Parameter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Wellenlänge, Betriebsart, Intensitä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Strahlgeometrie, Bestrahlungsdauer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Wirkung: Auge, Hau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Grenzwerte: GZS, MZB (Tabellen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Laserklassen 1, 1M, 2, 2M, (3A), 3R, 3B, 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066680" y="4952880"/>
            <a:ext cx="2057400" cy="990720"/>
            <a:chOff x="1066680" y="4952880"/>
            <a:chExt cx="2057400" cy="990720"/>
          </a:xfrm>
        </p:grpSpPr>
        <p:sp>
          <p:nvSpPr>
            <p:cNvPr id="269" name=""/>
            <p:cNvSpPr/>
            <p:nvPr/>
          </p:nvSpPr>
          <p:spPr>
            <a:xfrm>
              <a:off x="1066680" y="4952880"/>
              <a:ext cx="2057400" cy="990720"/>
            </a:xfrm>
            <a:prstGeom prst="rect">
              <a:avLst/>
            </a:prstGeom>
            <a:solidFill>
              <a:srgbClr val="46b13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7920" y="5181480"/>
              <a:ext cx="1295280" cy="533520"/>
            </a:xfrm>
            <a:prstGeom prst="rightArrow">
              <a:avLst>
                <a:gd name="adj1" fmla="val 50000"/>
                <a:gd name="adj2" fmla="val 60695"/>
              </a:avLst>
            </a:prstGeom>
            <a:solidFill>
              <a:srgbClr val="ffffff"/>
            </a:solidFill>
            <a:ln w="9360">
              <a:solidFill>
                <a:srgbClr val="46b1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333440" y="3276720"/>
            <a:ext cx="1524240" cy="1523880"/>
            <a:chOff x="1333440" y="3276720"/>
            <a:chExt cx="1524240" cy="1523880"/>
          </a:xfrm>
        </p:grpSpPr>
        <p:sp>
          <p:nvSpPr>
            <p:cNvPr id="272" name=""/>
            <p:cNvSpPr/>
            <p:nvPr/>
          </p:nvSpPr>
          <p:spPr>
            <a:xfrm>
              <a:off x="1333440" y="3276720"/>
              <a:ext cx="1524240" cy="1523880"/>
            </a:xfrm>
            <a:prstGeom prst="ellipse">
              <a:avLst/>
            </a:prstGeom>
            <a:solidFill>
              <a:srgbClr val="004290"/>
            </a:solidFill>
            <a:ln w="9360">
              <a:solidFill>
                <a:srgbClr val="46b1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09760" y="3352680"/>
              <a:ext cx="1371600" cy="1371240"/>
            </a:xfrm>
            <a:prstGeom prst="ellipse">
              <a:avLst/>
            </a:prstGeom>
            <a:solidFill>
              <a:srgbClr val="00429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chutz-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aßnahmen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447920" y="1981080"/>
            <a:ext cx="1295280" cy="1067040"/>
          </a:xfrm>
          <a:prstGeom prst="flowChartExtra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Gefährdungspotenziale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066680" y="2209680"/>
            <a:ext cx="7543800" cy="4038480"/>
            <a:chOff x="1066680" y="2209680"/>
            <a:chExt cx="7543800" cy="4038480"/>
          </a:xfrm>
        </p:grpSpPr>
        <p:grpSp>
          <p:nvGrpSpPr>
            <p:cNvPr id="98" name=""/>
            <p:cNvGrpSpPr/>
            <p:nvPr/>
          </p:nvGrpSpPr>
          <p:grpSpPr>
            <a:xfrm>
              <a:off x="1066680" y="2209680"/>
              <a:ext cx="7543800" cy="762120"/>
              <a:chOff x="1066680" y="2209680"/>
              <a:chExt cx="7543800" cy="762120"/>
            </a:xfrm>
          </p:grpSpPr>
          <p:sp>
            <p:nvSpPr>
              <p:cNvPr id="99" name=""/>
              <p:cNvSpPr/>
              <p:nvPr/>
            </p:nvSpPr>
            <p:spPr>
              <a:xfrm>
                <a:off x="1066680" y="2209680"/>
                <a:ext cx="7543800" cy="380880"/>
              </a:xfrm>
              <a:prstGeom prst="rect">
                <a:avLst/>
              </a:prstGeom>
              <a:solidFill>
                <a:srgbClr val="46b1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imär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66680" y="2590560"/>
                <a:ext cx="7543800" cy="381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aserstrahlung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1066680" y="3352680"/>
              <a:ext cx="7543800" cy="2895480"/>
              <a:chOff x="1066680" y="3352680"/>
              <a:chExt cx="7543800" cy="2895480"/>
            </a:xfrm>
          </p:grpSpPr>
          <p:sp>
            <p:nvSpPr>
              <p:cNvPr id="102" name=""/>
              <p:cNvSpPr/>
              <p:nvPr/>
            </p:nvSpPr>
            <p:spPr>
              <a:xfrm>
                <a:off x="1066680" y="3352680"/>
                <a:ext cx="7543800" cy="380880"/>
              </a:xfrm>
              <a:prstGeom prst="rect">
                <a:avLst/>
              </a:prstGeom>
              <a:solidFill>
                <a:srgbClr val="46b1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Sekundär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66680" y="4038480"/>
                <a:ext cx="3200400" cy="380880"/>
              </a:xfrm>
              <a:prstGeom prst="rect">
                <a:avLst/>
              </a:prstGeom>
              <a:solidFill>
                <a:srgbClr val="46b1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Direk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410080" y="4038480"/>
                <a:ext cx="3200400" cy="380880"/>
              </a:xfrm>
              <a:prstGeom prst="rect">
                <a:avLst/>
              </a:prstGeom>
              <a:solidFill>
                <a:srgbClr val="46b1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Indirek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66680" y="4419360"/>
                <a:ext cx="3200400" cy="18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Arial"/>
                  </a:rPr>
                  <a:t>Bauartspezifisch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spcBef>
                    <a:spcPts val="67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lektrische Bauteil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spcBef>
                    <a:spcPts val="67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Anregungsstrahlung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spcBef>
                    <a:spcPts val="67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Lasergase / -farbstoff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410080" y="4419360"/>
                <a:ext cx="3200400" cy="182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Arial"/>
                  </a:rPr>
                  <a:t>Anwendungsspezifisch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spcBef>
                    <a:spcPts val="67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mittierte Gefahrstoff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spcBef>
                    <a:spcPts val="67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Zündung explosiver Stoff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spcBef>
                    <a:spcPts val="67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Brandgefahr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spcBef>
                    <a:spcPts val="67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Sekundärstrahlung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90920" y="373356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934320" y="373356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2133720"/>
            <a:ext cx="8153640" cy="4267080"/>
          </a:xfrm>
          <a:prstGeom prst="rect">
            <a:avLst/>
          </a:prstGeom>
          <a:solidFill>
            <a:srgbClr val="46b134"/>
          </a:solidFill>
          <a:ln w="9360">
            <a:solidFill>
              <a:srgbClr val="46b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Vorschrift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56160" y="2362320"/>
            <a:ext cx="2556720" cy="3886200"/>
            <a:chOff x="956160" y="2362320"/>
            <a:chExt cx="2556720" cy="3886200"/>
          </a:xfrm>
        </p:grpSpPr>
        <p:sp>
          <p:nvSpPr>
            <p:cNvPr id="112" name=""/>
            <p:cNvSpPr/>
            <p:nvPr/>
          </p:nvSpPr>
          <p:spPr>
            <a:xfrm>
              <a:off x="990720" y="2362320"/>
              <a:ext cx="2514600" cy="388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956160" y="2362320"/>
              <a:ext cx="2556720" cy="3843720"/>
              <a:chOff x="956160" y="2362320"/>
              <a:chExt cx="2556720" cy="3843720"/>
            </a:xfrm>
          </p:grpSpPr>
          <p:sp>
            <p:nvSpPr>
              <p:cNvPr id="114" name=""/>
              <p:cNvSpPr/>
              <p:nvPr/>
            </p:nvSpPr>
            <p:spPr>
              <a:xfrm>
                <a:off x="969840" y="2362320"/>
                <a:ext cx="252936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BGV B2 (VBG 93)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Unfallverhütungsvorschrif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"Laserstrahlung"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56160" y="3581280"/>
                <a:ext cx="2556720" cy="262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2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MZB-Grenzwerte für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 Haut und Augen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spcBef>
                    <a:spcPts val="52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Laserklassensystem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spcBef>
                    <a:spcPts val="52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Anforderungen an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 Laseranlagen über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52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Betrieb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52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bes. Anwendungen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spcBef>
                    <a:spcPts val="52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Ausführliche Durchführungs-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 anweisungen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spcBef>
                    <a:spcPts val="52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Laserschutzbeauftragt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657600" y="2362320"/>
            <a:ext cx="2514600" cy="3886200"/>
            <a:chOff x="3657600" y="2362320"/>
            <a:chExt cx="2514600" cy="3886200"/>
          </a:xfrm>
        </p:grpSpPr>
        <p:sp>
          <p:nvSpPr>
            <p:cNvPr id="117" name=""/>
            <p:cNvSpPr/>
            <p:nvPr/>
          </p:nvSpPr>
          <p:spPr>
            <a:xfrm>
              <a:off x="3657600" y="2362320"/>
              <a:ext cx="2514600" cy="388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3732840" y="2362320"/>
              <a:ext cx="2405880" cy="3004560"/>
              <a:chOff x="3732840" y="2362320"/>
              <a:chExt cx="2405880" cy="3004560"/>
            </a:xfrm>
          </p:grpSpPr>
          <p:sp>
            <p:nvSpPr>
              <p:cNvPr id="119" name=""/>
              <p:cNvSpPr/>
              <p:nvPr/>
            </p:nvSpPr>
            <p:spPr>
              <a:xfrm>
                <a:off x="3732840" y="2362320"/>
                <a:ext cx="24058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DIN EN 60825 1/2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Strahlungssicherheit von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Lasereinrichtungen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833640" y="3581280"/>
                <a:ext cx="2201400" cy="17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2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Laserklassensystem mit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 GZS-Werten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spcBef>
                    <a:spcPts val="52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MZB-Werte für Augen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 und Hau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spcBef>
                    <a:spcPts val="52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Benutzerrichtlinien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spcBef>
                    <a:spcPts val="52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Anforderungen an die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 Laseranlag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6324480" y="2362320"/>
            <a:ext cx="2514600" cy="3886200"/>
            <a:chOff x="6324480" y="2362320"/>
            <a:chExt cx="2514600" cy="3886200"/>
          </a:xfrm>
        </p:grpSpPr>
        <p:sp>
          <p:nvSpPr>
            <p:cNvPr id="122" name=""/>
            <p:cNvSpPr/>
            <p:nvPr/>
          </p:nvSpPr>
          <p:spPr>
            <a:xfrm>
              <a:off x="6324480" y="2362320"/>
              <a:ext cx="2514600" cy="388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588720" y="2362320"/>
              <a:ext cx="2027880" cy="2724840"/>
              <a:chOff x="6588720" y="2362320"/>
              <a:chExt cx="2027880" cy="2724840"/>
            </a:xfrm>
          </p:grpSpPr>
          <p:sp>
            <p:nvSpPr>
              <p:cNvPr id="124" name=""/>
              <p:cNvSpPr/>
              <p:nvPr/>
            </p:nvSpPr>
            <p:spPr>
              <a:xfrm>
                <a:off x="6687000" y="2362320"/>
                <a:ext cx="183132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Regeln für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spezielle Bereiche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588720" y="3581280"/>
                <a:ext cx="2027880" cy="15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52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DIN 56912 (1999-04)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 (Showlaser)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spcBef>
                    <a:spcPts val="52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DIN EN 60601-2-22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 (Medizinische Geräte)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spcBef>
                    <a:spcPts val="52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LasSBBw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 (Militäreinsatz)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Vorschrift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176200"/>
            <a:ext cx="8001000" cy="39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DIN EN 12626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- Materialbearbeitung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ISO 11553-1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DIN EN 207/208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- Laserschutzfilter/-brillen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DIN EN 61040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- Leistungs- und Energie-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 Meßgerät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Strahlungsgrenzwerte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16680" y="2209680"/>
            <a:ext cx="2983320" cy="779400"/>
          </a:xfrm>
          <a:prstGeom prst="rect">
            <a:avLst/>
          </a:prstGeom>
          <a:solidFill>
            <a:srgbClr val="46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Z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imal zulässige Bestrahlu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843920" y="3429000"/>
            <a:ext cx="2329560" cy="459720"/>
            <a:chOff x="1843920" y="3429000"/>
            <a:chExt cx="2329560" cy="459720"/>
          </a:xfrm>
        </p:grpSpPr>
        <p:sp>
          <p:nvSpPr>
            <p:cNvPr id="131" name=""/>
            <p:cNvSpPr/>
            <p:nvPr/>
          </p:nvSpPr>
          <p:spPr>
            <a:xfrm>
              <a:off x="1843920" y="3429000"/>
              <a:ext cx="823680" cy="459720"/>
            </a:xfrm>
            <a:prstGeom prst="rect">
              <a:avLst/>
            </a:prstGeom>
            <a:solidFill>
              <a:srgbClr val="46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au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82480" y="3429000"/>
              <a:ext cx="891000" cy="459720"/>
            </a:xfrm>
            <a:prstGeom prst="rect">
              <a:avLst/>
            </a:prstGeom>
            <a:solidFill>
              <a:srgbClr val="46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ug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894320" y="4495680"/>
            <a:ext cx="2237760" cy="180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Einflußgröß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llenlän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triebsar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ahlgeometri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trahlungsdau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865400" y="2209680"/>
            <a:ext cx="3361320" cy="1678680"/>
            <a:chOff x="4865400" y="2209680"/>
            <a:chExt cx="3361320" cy="1678680"/>
          </a:xfrm>
        </p:grpSpPr>
        <p:sp>
          <p:nvSpPr>
            <p:cNvPr id="135" name=""/>
            <p:cNvSpPr/>
            <p:nvPr/>
          </p:nvSpPr>
          <p:spPr>
            <a:xfrm>
              <a:off x="4865400" y="2209680"/>
              <a:ext cx="3361320" cy="779400"/>
            </a:xfrm>
            <a:prstGeom prst="rect">
              <a:avLst/>
            </a:prstGeom>
            <a:solidFill>
              <a:srgbClr val="46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GZS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renzwerte zugänglicher Strahlung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19200" y="3428640"/>
              <a:ext cx="2853720" cy="459720"/>
            </a:xfrm>
            <a:prstGeom prst="rect">
              <a:avLst/>
            </a:prstGeom>
            <a:solidFill>
              <a:srgbClr val="46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Laserklassifizierun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45520" y="2971440"/>
              <a:ext cx="0" cy="457200"/>
            </a:xfrm>
            <a:prstGeom prst="line">
              <a:avLst/>
            </a:prstGeom>
            <a:ln w="9360">
              <a:solidFill>
                <a:srgbClr val="46b1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H="1">
            <a:off x="2279160" y="2971800"/>
            <a:ext cx="381240" cy="457200"/>
          </a:xfrm>
          <a:prstGeom prst="line">
            <a:avLst/>
          </a:prstGeom>
          <a:ln w="9360">
            <a:solidFill>
              <a:srgbClr val="46b1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6560" y="2971800"/>
            <a:ext cx="380880" cy="457200"/>
          </a:xfrm>
          <a:prstGeom prst="line">
            <a:avLst/>
          </a:prstGeom>
          <a:ln w="9360">
            <a:solidFill>
              <a:srgbClr val="46b1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79520" y="38862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422160" y="38862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80808"/>
                </a:solidFill>
                <a:latin typeface="Arial"/>
              </a:rPr>
              <a:t>MZB-Werte für direkten Blick in den Strahl</a:t>
            </a:r>
            <a:endParaRPr b="1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3915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MZB für Pulslaser        </a:t>
            </a:r>
            <a:r>
              <a:rPr b="1" lang="de-DE" sz="2400" spc="-1" strike="noStrike">
                <a:solidFill>
                  <a:srgbClr val="080808"/>
                </a:solidFill>
                <a:latin typeface="Arial"/>
              </a:rPr>
              <a:t>(nach DIN 60825-1)</a:t>
            </a: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1) Wellenlängenbereich 400 nm &lt; </a:t>
            </a:r>
            <a:r>
              <a:rPr b="0" lang="de-DE" sz="1600" spc="-1" strike="noStrike">
                <a:solidFill>
                  <a:srgbClr val="080808"/>
                </a:solidFill>
                <a:latin typeface="Symbol"/>
                <a:ea typeface="Symbol"/>
              </a:rPr>
              <a:t>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 &lt; 10</a:t>
            </a:r>
            <a:r>
              <a:rPr b="0" lang="de-DE" sz="1600" spc="-1" strike="noStrike" baseline="30000">
                <a:solidFill>
                  <a:srgbClr val="080808"/>
                </a:solidFill>
                <a:latin typeface="Arial"/>
              </a:rPr>
              <a:t>6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 nm:  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a), b), c)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2) übrige Wellenlängenbereiche: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a), b)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4280" y="3060720"/>
            <a:ext cx="7143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a) Die Bestrahlung durch jeden Einzelpuls einer Pulsfolge darf den MZB-Wer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für einen Einzelpuls nicht überschreit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438280"/>
            <a:ext cx="1752120" cy="398880"/>
          </a:xfrm>
          <a:prstGeom prst="rect">
            <a:avLst/>
          </a:prstGeom>
          <a:solidFill>
            <a:srgbClr val="46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Bedingunge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0040" y="3816360"/>
            <a:ext cx="7127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b) Die mittlere Bestrahlung für eine Pulsfolge der Dauer T darf den MZB-Wer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für einen Einzelpuls der Dauer T nicht überschreit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3920" y="4572000"/>
            <a:ext cx="7156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c) Die Bestrahlung durch jeden einzelnen Puls in der Pulsfolge darf den MZB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Wert des Einzelpulses multipliziert mit dem Faktor C</a:t>
            </a:r>
            <a:r>
              <a:rPr b="0" lang="de-DE" sz="1600" spc="-1" strike="noStrike" baseline="-25000">
                <a:solidFill>
                  <a:srgbClr val="080808"/>
                </a:solidFill>
                <a:latin typeface="Arial"/>
              </a:rPr>
              <a:t>6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 nicht überschreit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3560" y="5602320"/>
            <a:ext cx="8228160" cy="911160"/>
          </a:xfrm>
          <a:prstGeom prst="rect">
            <a:avLst/>
          </a:prstGeom>
          <a:solidFill>
            <a:srgbClr val="46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MZB-Wert wird duch diejenige Anforderung bestimmt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die größte Einschränkung darstell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kleinster MZB-Wer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Fallbeispiel:      </a:t>
            </a:r>
            <a:r>
              <a:rPr b="1" lang="de-DE" sz="2000" spc="-1" strike="noStrike">
                <a:solidFill>
                  <a:srgbClr val="080808"/>
                </a:solidFill>
                <a:latin typeface="Arial"/>
              </a:rPr>
              <a:t>Blick in den direkten Strahl</a:t>
            </a:r>
            <a:endParaRPr b="1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520" y="1828440"/>
            <a:ext cx="6324480" cy="685800"/>
          </a:xfrm>
          <a:prstGeom prst="rect">
            <a:avLst/>
          </a:prstGeom>
          <a:solidFill>
            <a:srgbClr val="46b13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Laserart: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Nd:YAG-Laser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Wellenlänge: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80808"/>
                </a:solidFill>
                <a:latin typeface="Symbol"/>
                <a:ea typeface="Symbol"/>
              </a:rPr>
              <a:t>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 = 1064 n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Pulsdauer:    t</a:t>
            </a:r>
            <a:r>
              <a:rPr b="0" lang="de-DE" sz="1600" spc="-1" strike="noStrike" baseline="-25000">
                <a:solidFill>
                  <a:srgbClr val="080808"/>
                </a:solidFill>
                <a:latin typeface="Arial"/>
              </a:rPr>
              <a:t>P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 = 1 ms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Pulsfrequenz: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f</a:t>
            </a:r>
            <a:r>
              <a:rPr b="0" lang="de-DE" sz="1600" spc="-1" strike="noStrike" baseline="-25000">
                <a:solidFill>
                  <a:srgbClr val="080808"/>
                </a:solidFill>
                <a:latin typeface="Arial"/>
              </a:rPr>
              <a:t>P</a:t>
            </a: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 = 20 Hz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514600"/>
            <a:ext cx="8153640" cy="41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) Einschätzung der Einwirkdau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&gt; kein Lidschlußreflex: geschätzte Einwirkdauer T=10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) Berechnung der Gesamtanzahl der Pulse über die Einwirkdau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&gt; N = T x f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=  10 s  x  20 Hz  =  20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) Abfrage der Bedingung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llenlängenbereich 400 nm &lt;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&lt; 106 nm   =&gt;   a), b), c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) 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Einzelimpul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MZB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Einzelpul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 90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0,75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J/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 9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001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0,75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J/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 0,506 J/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) 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mittel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MZB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mittel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 1/N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· 90·t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,75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·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·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J/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=  1/200 ·90 ·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,75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·1 ·1 J/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=  2,530 J/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) 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Fol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MZB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Fol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MZB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Einzelimpul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· 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= 0,506 (200)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/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J/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=  0,135 J/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=&gt;  MZB = 0,135 J/m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4:19:57Z</dcterms:created>
  <dc:creator>rolf</dc:creator>
  <dc:description/>
  <dc:language>en-US</dc:language>
  <cp:lastModifiedBy>rolf</cp:lastModifiedBy>
  <dcterms:modified xsi:type="dcterms:W3CDTF">2004-05-08T15:46:38Z</dcterms:modified>
  <cp:revision>38</cp:revision>
  <dc:subject/>
  <dc:title>Grundlagen der  LASER-Operation</dc:title>
</cp:coreProperties>
</file>